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034-7C9D-4F5B-B33B-93DB8380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DC8-A6EC-4DAA-8ED8-D3C47AD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520-DAB8-4092-92AB-EA16AA53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365-BE7B-4239-919C-B3B1C576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D07-674D-4A23-B779-5E74721D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E43-994C-4055-8B90-6E6DC553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1EB-75D2-4666-8331-5B433919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2FC-57D9-4E80-BD46-8F79CBFC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149-EA93-4344-9ECD-C52A2376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C19-4800-4FB6-91E0-A5FB081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20D-9A3D-409A-9663-9722AEB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FFF-4790-4A22-ABBC-A187DBE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0425-4213-4F3E-B8FD-9131BC0C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gen.ufl.edu/~chyn/age2062/lect/lect_06/4_19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gen.ufl.edu/~chyn/age2062/lect/lect_06/4_20A.GIF" TargetMode="External"/><Relationship Id="rId2" Type="http://schemas.openxmlformats.org/officeDocument/2006/relationships/hyperlink" Target="http://www.agen.ufl.edu/~chyn/age2062/lect/lect_06/4_20B.GIF" TargetMode="External"/><Relationship Id="rId3" Type="http://schemas.openxmlformats.org/officeDocument/2006/relationships/hyperlink" Target="http://www.agen.ufl.edu/~chyn/age2062/lect/lect_06/4_20C.GIF" TargetMode="External"/><Relationship Id="rId4" Type="http://schemas.openxmlformats.org/officeDocument/2006/relationships/hyperlink" Target="http://www.agen.ufl.edu/~chyn/age2062/lect/lect_06/4_20D.GIF" TargetMode="External"/><Relationship Id="rId5" Type="http://schemas.openxmlformats.org/officeDocument/2006/relationships/hyperlink" Target="http://www.agen.ufl.edu/~chyn/age2062/lect/lect_06/4_21.GIF" TargetMode="External"/><Relationship Id="rId6" Type="http://schemas.openxmlformats.org/officeDocument/2006/relationships/hyperlink" Target="http://www.agen.ufl.edu/~chyn/age2062/lect/lect_06/4_23.GIF" TargetMode="External"/><Relationship Id="rId7" Type="http://schemas.openxmlformats.org/officeDocument/2006/relationships/hyperlink" Target="http://www.agen.ufl.edu/~chyn/age2062/lect/lect_06/4_24.GIF" TargetMode="External"/><Relationship Id="rId8" Type="http://schemas.openxmlformats.org/officeDocument/2006/relationships/hyperlink" Target="http://www.agen.ufl.edu/~chyn/age2062/lect/lect_06/4_24.GIF" TargetMode="External"/><Relationship Id="rId9" Type="http://schemas.openxmlformats.org/officeDocument/2006/relationships/hyperlink" Target="http://www.agen.ufl.edu/~chyn/age2062/lect/lect_06/4_25A.GIF" TargetMode="External"/><Relationship Id="rId10" Type="http://schemas.openxmlformats.org/officeDocument/2006/relationships/hyperlink" Target="http://www.agen.ufl.edu/~chyn/age2062/lect/lect_06/4_25A.GIF" TargetMode="External"/><Relationship Id="rId11" Type="http://schemas.openxmlformats.org/officeDocument/2006/relationships/hyperlink" Target="http://www.agen.ufl.edu/~chyn/age2062/lect/lect_06/4_25B.GIF" TargetMode="External"/><Relationship Id="rId12" Type="http://schemas.openxmlformats.org/officeDocument/2006/relationships/hyperlink" Target="http://www.agen.ufl.edu/~chyn/age2062/lect/lect_06/4_25B.GIF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6000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ophlip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olesterol in membran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(6-33)  binds to and immobilizes phospholipids (makes membranes less fluid and strong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57184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agen.ufl.edu/~chyn/age2062/lect/lect_06/lect_06.h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Routes Across Membra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1.  Diffusion  do diffuse (hydrophobic molecules, e.g. oxygen, nitrogen, lipid soluble; small polar molecules,e.g. water, glycerol) do not diffuse (ions; polar molecules, e.g. glucose, amino aci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2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ilitated diffusion cha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4) (influenced by channels diam. and chem.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3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operative ion cha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5) (two chemicals pass cooperativ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4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ted cha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6) (allosteric effector opens channel, e.g cystic fibrosis is caused by a flaw in this mechani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5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obil car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7) (transmembrane carr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6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ectrochemical grad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8) (~70 m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7. 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on pum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39) (pump ions out using ATP energy; inside becomes negatively charg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.8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plexatio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inside ce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5.   Endocytosis and Exocyt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1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hagocytosi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white blood ce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2. 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agocytosi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amoeb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6-4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3.  Pinocytosis (engulfment of liquid, i.e. water from blood to lung) (6-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4.  Endocytosis (engulfment of particles, i.e transport of materials to lysosomes) (6-4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5.  Endocytosis (of cholesterol) (6-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.6. Exocytosis (tear fluid) (6-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04:10Z</dcterms:created>
  <dc:creator>Staff</dc:creator>
  <dc:description/>
  <dc:language>en-US</dc:language>
  <cp:lastModifiedBy>Staff</cp:lastModifiedBy>
  <dcterms:modified xsi:type="dcterms:W3CDTF">2005-10-24T19:04:18Z</dcterms:modified>
  <cp:revision>1</cp:revision>
  <dc:subject/>
  <dc:title>Cell membrane</dc:title>
</cp:coreProperties>
</file>